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556-396D-4458-9FF5-A5305936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C8C-7F8C-49B2-8232-0D5184C8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4550B-0FA0-458C-8EA7-EA056D9E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2DD7E-5B7E-4AF8-910C-7D954AA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93121-8523-4A0C-97B0-AF4153CD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A8401-0F4B-4F0B-833E-ED13158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8444-1452-4C6B-9DC7-4777881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6E97-4B17-422C-B588-DD3F812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1B14-8864-412C-83B0-C982FB6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C1BCB-B1B3-4D88-9AB1-C4A2E341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5DE20-51AD-4ED2-A985-40C7B60D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F61E0-A269-4EB1-A00B-1BE6E5D9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84D-A6E8-4A48-AD81-DBDAD183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8E874-75E5-487F-86C7-A364BD1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0589F-E7EC-40B6-8732-0DA760E7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420AD-99C1-4A9F-8520-62D30630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0219-BEDA-4D8C-8553-3047E555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998EA-AFE8-48FB-A44B-950D980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48F40-1475-4418-86BB-385822A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A0912-11D2-4A4F-9A79-236BF27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85232-A8C1-4FE5-AF83-AA1D82D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6E92-2802-46E4-83AC-F1C93FB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EA8A-2638-4148-BC81-C57EA9FD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D49-3F67-4CC6-82D7-DE5EF044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F300-4358-41CE-BD0B-C239C45B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AEF4-F534-46A4-8153-A2E8D5D0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2B72-4098-4A91-8669-EC51408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BF13-BA67-4231-B980-F2BD00B8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5DC6E-FC67-4198-9808-75BE04E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27526-2E16-466D-B241-E2D5986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58CD2-B4DE-4DC8-B5D8-2A83F52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1FD0-11F7-4728-A1B4-0FB6578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F0995-411B-46DC-A60C-B15DC3A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23C8E-FDDF-4B98-B62A-181781D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0BA-0F90-4F9F-A77B-0A510FCA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494F0-79E4-465C-A117-580E0B5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7739-A982-4ACE-ADFA-482F6C8F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8A242-CDD5-4C64-B849-5BF0926E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95F72-AF64-4E09-A8DD-81267CAF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1CB6F-851C-4B2D-AA17-B02193E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1D4B-E1CC-4CC2-9EBC-5AF53AF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4472F-5FC5-4A74-AFA8-3FEECE2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EC75-1534-43A7-A539-36BC0FD8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2B4B8-1BDE-4248-B9C1-E36A21A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4326-D603-4632-B874-44165B4B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CF81-94FE-4CCC-8E32-07D238E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68F5D-7D96-47D0-BA90-DD66101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D8898-3A12-4475-8DA6-82D1AEA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63DB3-7692-4ED8-8946-0E1626F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7F0E6-93DC-4D4A-AC60-2EBC4ED1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C6EB-B4C6-4D19-BC33-FC323661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729-349B-4608-A791-C5235913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450-8CA8-433C-8AA0-873FC6D2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4418-3045-4E9C-B09E-B645894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C1AB-A450-4B88-A4C9-276AB17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A33-A51B-43B0-9C6A-9003C02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075-202B-432B-B482-A55FEC52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9BE7-3433-4AD8-AA0E-25C87E3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526B-AEB9-46AE-9516-05C7FD6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D94-C223-40BD-849C-061742A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F16A-9911-462F-B189-53570D45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7A9-1E44-406A-82AB-B3A97C63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31C6-153A-4FAE-B725-F7387885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89A5-3806-492D-9E95-B516AA81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96EE-CF83-4D35-8E70-E75E1C1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1E99-EF0A-44E3-990A-634D6B3D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1878-210F-4BF5-9BDD-9DD95EA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0BA-6386-4931-B091-81C28A1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AA7F-8B30-416C-AF65-D446FD7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D9C3-BD85-4448-8676-9FB2945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DA64-BFCF-453B-823F-F2B4431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4615-5923-43DA-977D-2174960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DB06-3D11-4CAA-BD46-17C5772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C93D-70C6-4A65-B85D-685998E7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82AC-2021-4DB2-ADCF-D6BFB443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57F2-E99D-4610-A6C8-F5D5CD9A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D0EE-751B-4DB8-9AD2-84B0587F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15B5-31E4-4733-BDAB-E2C3FF1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43D-DA44-43D0-8D50-E539189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A9D4-7044-4579-BD72-3D1C1E7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BD9C-746C-49A8-8606-8040B9D9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B956-3154-467E-9A6B-7F3E539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668D-A907-4B99-9EE3-5A56472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2378-9D39-450A-A77A-2D28F55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1691-BA7B-4960-A0D7-058DD2E2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6C85-6086-46EB-B579-15367DD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AE3F-E772-489D-956D-5D00D231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45F7-5141-4E4C-9F88-E8BF723E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6AA5-D777-487B-996E-46862C7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8C0-52C3-4B16-B6A9-3A98B42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16D3-A8AF-4487-AD83-7F77884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9061-37D8-425F-8EB0-5FDB5D5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3F21-C36E-439E-B9D1-1546E8C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4F69-2DA1-4613-A82A-F9FA325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5C63-EB45-4EBF-A18B-AB39FB2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B965-F607-4FEA-8CF9-263D437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8E35-8181-4DFB-9964-2188B5DD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89A4-94BA-4758-80D6-E3A4EABF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71BD-09C9-4FAE-B641-45B709E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1BD9-E1B5-417F-9718-171AC86B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22C-AD04-4474-AEC4-F15FC34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9783-43E4-4A26-8A64-0CD6F3D8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40DF-BF3C-4255-9C3F-1CF4E96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6B97-1642-4203-AD22-E7ACE83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219D-7183-461D-8EDE-DE5970A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FEA29-C4A3-4006-A474-D12B39E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E7D2-9033-416D-8E9B-524E3F5C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F210-2D33-4053-B3A0-5773AA8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FC4C-2EE4-4FFF-A465-846DC0B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287C-00B5-442F-B6B9-52527EB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1022-14FA-4D1A-8D8B-75B1A637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A7E-4353-40E2-A2CB-04F22CF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E2A5-7950-435A-A86C-5E44D5F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D73B-34E4-4E80-A44A-02ADF125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6E86-2ACA-4118-8592-874161D8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A504-061A-48E6-8A13-EBD77BF3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F7D1-2BBF-42EC-9850-275DB41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37E1-27FD-4AA0-8592-DC711DAD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0922-3B6D-4443-BE04-6A6E179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8356-9DF5-4170-A0EA-421AE6D7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59EA-96D2-45B9-BB9B-B0AC389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AA3C-C29F-400A-B935-3133FFA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DEC-C8C5-4752-A038-5393C52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2B9FE-C44D-4D27-BE59-BD665AD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DAAB-F3AA-4199-93F7-34C9AA0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E6CA1-ADE0-4F39-9EAD-D8E9B298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5C67-C865-4135-8512-BD5AC84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8C4C7-F604-4052-B73C-6EA52047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A826-890A-4109-8825-8D73AE21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77504-C2FC-4147-A703-13FBE65E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4BF0-F91E-43FF-A203-736D5071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C474-C2C8-4E74-BA56-7690EB86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666CB-AC04-4816-83D8-81154DF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342-B052-485A-9810-C396B13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030A-DBF5-42E6-96F8-01370889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0B3D-16C7-46BB-89BC-475B930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D541-F761-4FD8-9A40-C450C019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CD61-51AB-499C-AA46-864D47B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79E4-9B16-47F0-A7BD-20BE484C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B8C1-4ED4-4741-965B-385CE4F9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DCC8-2E7E-49B6-9501-FB9B4953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7F215-22D2-48F4-A9E3-49C898E6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C45AB-A5BC-43EC-ACFA-EA1D1A07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A5584-BE19-4948-A639-42648BCE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E88-56FD-4527-936A-8B69BA27E0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8142-9EA9-40F5-BAF9-693CE0B066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B0D-2CE1-4264-B905-EC81EC073E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9EA-500E-46B6-9A50-CDBD06178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32DD-89EE-41A7-8CA3-473C68A67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00D5-66BC-45C2-86E6-371A2ABCC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5C1B-1FF0-4F82-831B-7CA5D31E6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0540-CA66-4444-9A56-6CF848111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820-550E-4FBC-B5E2-1F689C655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120A-0987-4F8E-ACC1-7480B4661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73BB-2839-41E1-8196-FCDAC1FAEA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53E-043B-4794-A889-D9667434C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212760" y="1146240"/>
            <a:ext cx="9004320" cy="17431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3535"/>
                </a:solidFill>
                <a:latin typeface="Saysettha Unicode"/>
                <a:cs typeface="Saysettha Unicode"/>
              </a:rPr>
              <a:t>ໝວດອາການເຈັບເປັນ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290520" y="1143000"/>
          <a:ext cx="8472600" cy="5592600"/>
        </p:xfrm>
        <a:graphic>
          <a:graphicData uri="http://schemas.openxmlformats.org/drawingml/2006/table">
            <a:tbl>
              <a:tblPr/>
              <a:tblGrid>
                <a:gridCol w="4357800"/>
                <a:gridCol w="1447560"/>
                <a:gridCol w="1295640"/>
                <a:gridCol w="13716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ໝວດອາກາ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Rural w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ea typeface="Saysettha Unicode"/>
                        </a:rPr>
                        <a:t>Rural w/o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ບໍ່ສາມາດດື່ມ ແລະ ດູດນົມບໍ່ໄດ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74b78"/>
                      </a:solidFill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ເຈັບໜັກຂ້ຶ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3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3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ອາການໄຂ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8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7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ຫາຍໃຈໄ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ຫາຍໃຈຍາ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ເລືອດໃນອາຈົ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ດື່ມໄດ້ໜ້ອ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4b78">
                        <a:alpha val="20000"/>
                      </a:srgbClr>
                    </a:solidFill>
                  </a:tcPr>
                </a:tc>
              </a:tr>
              <a:tr h="618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Saysettha Unicode"/>
                          <a:cs typeface="Saysettha Unicode"/>
                        </a:rPr>
                        <a:t>ມີອາການອື່ນໆອີ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626"/>
                          </a:solidFill>
                          <a:latin typeface="Lucida Sans Unicode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74b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TextBox 8"/>
          <p:cNvSpPr/>
          <p:nvPr/>
        </p:nvSpPr>
        <p:spPr>
          <a:xfrm>
            <a:off x="228600" y="1922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% 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cs typeface="Saysettha Unicode"/>
              </a:rPr>
              <a:t>ຂອງແມ່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/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cs typeface="Saysettha Unicode"/>
              </a:rPr>
              <a:t>ຜູ້ເບິ່ງແຍງເດັກ ທີ່ມີ ຄວາມຮູ້ກ່ຽວກັບໝວດອາການ ສຳລັບການນຳເດັກໄປພົບແພດ ຖ້າເດັກມີອາການ</a:t>
            </a:r>
            <a:r>
              <a:rPr b="0" lang="en-US" sz="2400" spc="-1" strike="noStrike">
                <a:solidFill>
                  <a:srgbClr val="ffc000"/>
                </a:solidFill>
                <a:latin typeface="Saysettha Unicode"/>
                <a:ea typeface="Saysettha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ຖາມຄຳຖາມ ນຳຜູ້ເປັນແມ່່ ແລະ ຜູ້ດູແລເດັກທຸກຄົນ 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ຂອງເດັກຕຳ່ກວ່າ 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ປີ</a:t>
            </a:r>
            <a:r>
              <a:rPr b="0" lang="en-US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ການຕອບຕ້ອງເປັນທຳມະຊາດ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ຖາມເຈາະຈີ້ມວ່າ ‘ໝວດອາການໃດອີກ</a:t>
            </a:r>
            <a:r>
              <a:rPr b="1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 ແລະສືບຕໍ່ຖາມຫາອາການ ຫລື ໝວດອາການອື່ນອີກຈົນກວ່າ ແມ່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ຜູ້ດູແລເດັກ ບໍ່ສາມາດບອກເຖິງອາການໃດໄດ້ອີ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ຂີດວົງອ້ອມທຸກໝວດອາການທີ່ກ່າວເຖິງ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ea typeface="Saysettha Unicode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ແຕ່ຢາແນະນຳຄຳຕອບໃຫ້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Rectangle 2" descr=""/>
          <p:cNvPicPr/>
          <p:nvPr/>
        </p:nvPicPr>
        <p:blipFill>
          <a:blip r:embed="rId1"/>
          <a:stretch/>
        </p:blipFill>
        <p:spPr>
          <a:xfrm>
            <a:off x="-255600" y="0"/>
            <a:ext cx="42973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5"/>
          <p:cNvGraphicFramePr/>
          <p:nvPr/>
        </p:nvGraphicFramePr>
        <p:xfrm>
          <a:off x="609480" y="152280"/>
          <a:ext cx="77263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7726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9:38:17Z</dcterms:created>
  <dc:creator>eholmberg</dc:creator>
  <dc:description/>
  <dc:language>en-US</dc:language>
  <cp:lastModifiedBy>USER</cp:lastModifiedBy>
  <dcterms:modified xsi:type="dcterms:W3CDTF">2011-09-03T11:37:19Z</dcterms:modified>
  <cp:revision>34</cp:revision>
  <dc:subject/>
  <dc:title>Slide 1</dc:title>
</cp:coreProperties>
</file>